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C5E-DA1F-40A9-9A6F-34600693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6A3-48DD-402D-9ACF-24137F3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1B9-C231-43D8-835C-BB82AAE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BA8-2DE4-4DEC-9288-74B759FE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4A4-10AC-4885-A4FF-A1B3825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5E0-6CA0-4935-88AB-463E43AB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CE0-E4E2-4D5F-829F-7887D08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3EE-82FD-48B1-A9E6-2D51A176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FF2-ECDC-423B-A6CD-C77CF0B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1EC-8EF4-4AD2-9FAF-E07BDC9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6A7-1431-48DC-B45C-F4026EB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331-EA83-42FB-B33D-9ED2267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59D-BDE5-4FBF-95E4-B7084B35C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260280"/>
            <a:ext cx="9216720" cy="597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Narrow"/>
              </a:rPr>
              <a:t>Islanti 1918-1939 –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 Narrow"/>
              </a:rPr>
              <a:t> demokratia koetuksella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96720" y="-39600"/>
            <a:ext cx="10909080" cy="7068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-luvulla Islanti koki teollisen vallankumouksen – kalastusvenekanta uudist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öväenliike organisoit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hteet Tanskaan olivat hyvä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lkopuoliittisia uhkia ei oll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-luvulla lama aiheutti levottumuuksia ja työttömyytt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tio kohensi sosiaaliturv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-612720" y="-93600"/>
            <a:ext cx="10728360" cy="6951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uonna 1939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lannissa oli 121 000 asuk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mistettiin 21 700 paria hansikka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aloja vietiin ulkomaille 17,1 miljoonan kruunun edest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ykjavikissa oli 842 kalastajaa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usi murros koitti toisen maailmansodan myöt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älit miehitettyyn Tanskaan katkesi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erikkalaiset saapuivat Islanti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49294" r="0" b="0"/>
          <a:stretch/>
        </p:blipFill>
        <p:spPr>
          <a:xfrm>
            <a:off x="2700360" y="2637000"/>
            <a:ext cx="6192720" cy="40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tsenäisyys Tanskan vallan all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slanti itsenäistyi 1918 kuningaskunnaksi, mutta personaaliunionissa Tanskan kan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anskan kuningas Kristian X oli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slannin kuningas 1918-19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anska johti Islannin ulko- ja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urvallisuuspolitiikk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325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620640"/>
            <a:ext cx="3745080" cy="5472360"/>
          </a:xfrm>
          <a:prstGeom prst="rect">
            <a:avLst/>
          </a:prstGeom>
          <a:solidFill>
            <a:srgbClr val="e4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3546720" cy="547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3280" y="1052280"/>
            <a:ext cx="40435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anskan kuningatar perinteisessä islantilaisessa kansallisasuss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620640"/>
            <a:ext cx="3745080" cy="5472360"/>
          </a:xfrm>
          <a:prstGeom prst="rect">
            <a:avLst/>
          </a:prstGeom>
          <a:solidFill>
            <a:srgbClr val="e4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5571" t="7979" r="11246" b="9430"/>
          <a:stretch/>
        </p:blipFill>
        <p:spPr>
          <a:xfrm>
            <a:off x="826920" y="620640"/>
            <a:ext cx="4069080" cy="5472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43280" y="1052280"/>
            <a:ext cx="40435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anskan kuningatar perinteisessä islantilaisessa kansallisasuss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67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280" y="333360"/>
            <a:ext cx="4032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3ebf1"/>
                </a:solidFill>
                <a:latin typeface="Arial"/>
              </a:rPr>
              <a:t>Itsenäisyystaistelu </a:t>
            </a:r>
            <a:br>
              <a:rPr sz="3200"/>
            </a:br>
            <a:r>
              <a:rPr b="0" lang="en-GB" sz="3200" spc="-1" strike="noStrike">
                <a:solidFill>
                  <a:srgbClr val="e3ebf1"/>
                </a:solidFill>
                <a:latin typeface="Arial"/>
              </a:rPr>
              <a:t>oli rauhanomainen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0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762440" cy="30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2360" y="3573360"/>
            <a:ext cx="4032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3ebf1"/>
                </a:solidFill>
                <a:latin typeface="Arial"/>
              </a:rPr>
              <a:t>Samoin työväen-liikkeen synty ja äärioikeiston heikko nousuyri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49294" r="-162" b="0"/>
          <a:stretch/>
        </p:blipFill>
        <p:spPr>
          <a:xfrm>
            <a:off x="179280" y="1125360"/>
            <a:ext cx="4191120" cy="54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Flokkur Þjóðernissinna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259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lannin kansallismielinen puo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ustettu 1934, toiminta hiipui nopeasti, sai vain vähän kannatu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koi islantilaisten arjalaisuuteen ja halusi suojella islantilaista perimä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Islantilainen perimä nousi seuraavan kerran tietoisuuteen 1990-l lopulla kun amerikkalainen deCODE Genetics hankki oikeudet islantilaisten geenipankki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Tästä syntyi kansallinen vastarintaliike, Mannver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Ups, takaisin asia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llisaalis hehtolitroissa 1920-194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84160" y="1600200"/>
          <a:ext cx="73738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600200"/>
                    <a:ext cx="7373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yöväestö pääelinkeinoittain 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1920 ja 193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8640" y="1600200"/>
          <a:ext cx="71467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1600200"/>
                    <a:ext cx="7146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1:04:41Z</dcterms:created>
  <dc:creator>Karoliina Snell</dc:creator>
  <dc:description/>
  <dc:language>en-US</dc:language>
  <cp:lastModifiedBy>Karoliina Snell</cp:lastModifiedBy>
  <dcterms:modified xsi:type="dcterms:W3CDTF">2007-03-01T10:14:06Z</dcterms:modified>
  <cp:revision>21</cp:revision>
  <dc:subject/>
  <dc:title>Islanti 1918-1939 – demokratia koetuksella</dc:title>
</cp:coreProperties>
</file>