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104-FB03-4EA6-B1A6-826E4C9E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F85-DDE5-472F-AB31-B44C5F00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DDE-DF04-468A-BBF6-6D9C98CC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B00-D672-48B8-B3CA-0E157772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4FE-54C6-4940-A555-B71680A8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38B-7789-4332-9FF6-E0A13DCF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FBD-6732-45C2-9841-B81AB003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A35-1A52-4782-ADA8-A25EAAE5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1FF-63D3-420A-89DC-D0A2CB81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A40-C576-4963-8971-D132FA2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B45-1AD8-48E4-86F2-5983120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450-4653-4245-9E71-DA4DB44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2417-3868-471D-9607-DFB08E5C9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781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imes New Roman"/>
              </a:rPr>
              <a:t>Mihin on tul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48720" cy="3457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11280" y="1125360"/>
            <a:ext cx="486000" cy="687600"/>
          </a:xfrm>
          <a:prstGeom prst="downArrow">
            <a:avLst>
              <a:gd name="adj1" fmla="val 50000"/>
              <a:gd name="adj2" fmla="val 35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0400" y="47628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Varianssien yhtäsuuruust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809000">
            <a:off x="3974760" y="1220760"/>
            <a:ext cx="485640" cy="1623960"/>
          </a:xfrm>
          <a:prstGeom prst="downArrow">
            <a:avLst>
              <a:gd name="adj1" fmla="val 50000"/>
              <a:gd name="adj2" fmla="val 83599"/>
            </a:avLst>
          </a:prstGeom>
          <a:solidFill>
            <a:srgbClr val="e505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640" y="9810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-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399200">
            <a:off x="5447880" y="1083960"/>
            <a:ext cx="486000" cy="1768320"/>
          </a:xfrm>
          <a:prstGeom prst="downArrow">
            <a:avLst>
              <a:gd name="adj1" fmla="val 50000"/>
              <a:gd name="adj2" fmla="val 909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000" y="981000"/>
            <a:ext cx="18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-ar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erkitsevy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029640" cy="26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8000" y="3763800"/>
            <a:ext cx="5616720" cy="268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84600" y="42552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ann-Whitneyn U-t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8940200">
            <a:off x="7092720" y="40766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26400">
            <a:off x="6948000" y="5877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76200" y="5537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-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0564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-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n sinulla on enemmän kuin kaksi ryhmää ja haluat vertailla niiden välisiä eroja jonkun muuttujan suhteen, valitse yksisuuntainen varianssianalyysi tai Kruskall-Wallisin tes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48720" cy="3247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9816200">
            <a:off x="197928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48800">
            <a:off x="3348000" y="119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e505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74040" y="85716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eskihajo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6922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eski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34080" y="2811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yhmien keskiarvot ja keskihajonn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9440" y="13644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ANO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947000" cy="263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01120" y="404640"/>
            <a:ext cx="27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Onko ryhmien välil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ero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917200">
            <a:off x="6516720" y="148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961200">
            <a:off x="7640640" y="1542960"/>
            <a:ext cx="485640" cy="974880"/>
          </a:xfrm>
          <a:prstGeom prst="downArrow">
            <a:avLst>
              <a:gd name="adj1" fmla="val 50000"/>
              <a:gd name="adj2" fmla="val 50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1080" y="8366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-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7080" y="90792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-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09600" y="374760"/>
            <a:ext cx="7394760" cy="6078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65000" y="-64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inkä ryhmien välillä erot 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960720" cy="325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529080" cy="2281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108960" y="35244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ruskall-Wall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94400">
            <a:off x="4140360" y="4581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262600">
            <a:off x="4140360" y="537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1948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0720" y="4437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8360" y="5661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-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95480" y="42372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2520" y="496800"/>
            <a:ext cx="79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tkimusprosessi (MOTV 27.11.2005, muokattu De Vaus 1994, 21 pohjalt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1773360"/>
            <a:ext cx="172872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96000" y="2637000"/>
            <a:ext cx="172872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ypotee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005360"/>
            <a:ext cx="194472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mpiiriset mitta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5373720"/>
            <a:ext cx="172872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ineis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rääm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4005360"/>
            <a:ext cx="172872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ineis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alyy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637000"/>
            <a:ext cx="172872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mpiiri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lok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781360"/>
            <a:ext cx="86328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2060640"/>
            <a:ext cx="151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148000" y="4581360"/>
            <a:ext cx="1584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979640" y="458100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35280" y="321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08000" y="206028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06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4680" y="981000"/>
            <a:ext cx="33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orian testaamisen lähtökoh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95800" y="1865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deduk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53040" y="335772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perationalisa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6320" y="609300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orian rakentamisen lähtökoh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4880" y="170028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äätelmät teorian suh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nalyysitavan valin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n sinulla on kaksi luokitteluasteikollista muuttujaa ja haluat tarkastella niiden välisiä yhteyksiä, valitse ristiintaulukointi j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r>
              <a:rPr b="0" lang="fi-FI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Arial"/>
              </a:rPr>
              <a:t>riippumattomuustes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istiintaulukoint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137440" cy="3794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9000" y="148284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isuaalisesti informatiivin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59500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87400" y="589752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fi-F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=45,38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6280" y="5805360"/>
            <a:ext cx="38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oidaan laskea myö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uloksen tilastollinen merkitsevyy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628560"/>
            <a:ext cx="4681440" cy="2586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24000" y="3308400"/>
            <a:ext cx="5400720" cy="282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17404800">
            <a:off x="1258920" y="41493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640" y="53006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earson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83800">
            <a:off x="7164000" y="3357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e505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44920" y="2728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-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n sinulla on kaksi järjestys- tai välimatka-asteikollista muuttujaa ja haluat tarkastella muuttujien välisiä yhteyksiä, valitse Pearsonin tulomomenttikorrelaatiokerroin tai Spearmanin järjestyskorrelaatiokerro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orrelaatiomatriis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42920" y="1940040"/>
            <a:ext cx="7561440" cy="4002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6242400">
            <a:off x="7998120" y="2594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505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15480" y="1576440"/>
            <a:ext cx="167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orrelaati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err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35600">
            <a:off x="7596000" y="3860640"/>
            <a:ext cx="485640" cy="1800360"/>
          </a:xfrm>
          <a:prstGeom prst="upArrow">
            <a:avLst>
              <a:gd name="adj1" fmla="val 50000"/>
              <a:gd name="adj2" fmla="val 92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0720" y="5734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-ar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n sinulla on kaksi ryhmää, joiden välisiä eroja haluat tarkastella jonkun muuttujan suhteen, valitse riippumattomien otosten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testi tai Mann-Whitneyn U-tes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7034400" cy="236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18710400">
            <a:off x="3808440" y="1528560"/>
            <a:ext cx="485640" cy="1695240"/>
          </a:xfrm>
          <a:prstGeom prst="downArrow">
            <a:avLst>
              <a:gd name="adj1" fmla="val 50000"/>
              <a:gd name="adj2" fmla="val 87268"/>
            </a:avLst>
          </a:prstGeom>
          <a:solidFill>
            <a:srgbClr val="e505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720" y="1125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eskiar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84200">
            <a:off x="6300360" y="2060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08200" y="143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eskihajo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516800">
            <a:off x="2195640" y="206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2360" y="16286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yhm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6094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-t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3:37:48Z</dcterms:created>
  <dc:creator>Erityispedagogiikka</dc:creator>
  <dc:description/>
  <dc:language>en-US</dc:language>
  <cp:lastModifiedBy>Erityispedagogiikka</cp:lastModifiedBy>
  <dcterms:modified xsi:type="dcterms:W3CDTF">2008-10-15T13:37:58Z</dcterms:modified>
  <cp:revision>1</cp:revision>
  <dc:subject/>
  <dc:title>Slide 1</dc:title>
</cp:coreProperties>
</file>