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133-029B-45D0-A067-2774AA36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699-6834-474F-A776-792B8E7D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894-71D3-4B11-8055-5A5CD7B7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7E2-005F-4BB0-91B1-B16BB111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7879-7DD9-4A2A-BF37-A58E367A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0FA3-BFDF-47FF-9996-C3D3AEB5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A8F9-D9E1-4624-BDD2-3F4E96B2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FE67-1C98-4892-ACC4-318D1C6A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F95B-564D-43A6-9F25-92865056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EEAA-B5A5-4D75-9F99-06E02E1C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27A-C2D0-4EA4-BE1D-183DAD6C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EEE-4176-4E4A-9E4D-1D44CC7B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D543-FDB5-4D0D-AD34-DB8F9D1C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CD6B-A9C3-4D49-B7F5-29A8D63F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555C-25A3-4689-BF14-2EF55C7F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B4CB-035B-485C-80ED-5117290C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F4FE-A330-4A92-A8F1-7F532963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38F-5D92-479F-B487-329B2ED5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5AE-47F7-4959-AA5B-5FDABF74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28D-F1A7-46D7-9FD9-1B37DD82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0FE-72F1-48FE-9FFA-CC1420ED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511-D1BE-41BB-ABBA-153FB8E4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26A-8488-422D-8252-65B3F71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423-217B-43E4-AEB8-24E1585B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9697-367A-41A2-BB8D-43A7D1A6B351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F4E4-58A8-415F-92C3-8BE735CE04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D0B7-8A20-47AD-B290-0C1FC46E5F91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EAEC-A357-4826-945E-17718E9163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Sirpa Lautjär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Moniammatillisen yhteistyön vaarat ja viehätykset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dbbd71"/>
                </a:solidFill>
                <a:latin typeface="Arial"/>
              </a:rPr>
              <a:t>Moniammatillisu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-21708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Lain velvoite: moniammatillinen työ – ja suunnitel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Lastensuojelun ilmoitusvelvollisuus – paine lastensuojelu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Hoitotakuu – paine lasten- ja nuorisopsykiatria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Lisääntynyt väkivalta ja levottomuus – paine koulu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Formaalit / yksityiset sosiaaliset verk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Hierarkisuus / epämuodollisuus / roolissa pysymi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Osa lapsista ja nuorista ei kelpaa oikein kellekää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Asiakaspolku -  suora, nopea ja loogi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-  hidas ja katkonai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- dramaattinen ja asiakas unohtui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- vaihtuvien työntekijöiden golgat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rpa Lautjär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351E3-5CF1-48EE-AE80-C05C1BD16D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ikuisuus ja ammatillisu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aa tehtävään liittyvät normi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enne työhön, sitoutuminen, osaaminen, oman toiminnan ohjaami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tuu kurinalaisesta mielialan, asenteen ja motivaation hallinna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man ammatinvalinnan hyväksymi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eman hyväksyminen yhteisöss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man toiminnan johtami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sekontrollisuunnitelma (itsekontrollin vaikeissa olosuhteissa on ammatillisen käytöksen tunnusmerkk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unteleminen ja kuulemi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rpa Lautjär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39BF8-0003-463D-8BBC-D6F48C7025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dellytykset yhteistyöll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ri hallintokunnilla oma osa-al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rajat ja rajapintojen määritte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Yhteistyön rakenne, muodot ja tiivi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uistiinkirjaaminen ja tiedonkulk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Viestintä asiakkaalle ja ryhmäl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Portfoliotyö (pitkäkestoisia suunnitelmi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Asenne (defensiivinen, besserwisser vai auttajan varj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itä tarkoittaa ”lapsen etu”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Aidot vaihtoehdot ja valmius kompromisseih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Luottamus, avoimuus ja rehellisy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rilaisuuden hyväksyminen (henkilökemia kotii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Luovuus ratkaisuissa (”ei meillä ole tällainen mahdollista…”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Tunnelman aukikirjoittaminen, jos homma ei ete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Pienien ja isojen kuntien erityispulm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rpa Lautjär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C1583-45F9-4674-8AAB-54D2D3A8BF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mmatti-identiteett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Ryhmän moniäänisyys on etu monipuoliselle ymmärtämise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Oman työn arvostus ja professionaalisu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Toisten työn arvos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Nuorella mahdollisuus seniorin tuk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Yksityisen ja ammattiroolin selkeä erottaminen (valmennus, tiimit, työnohjaus, mentoroin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Omien tunteiden tunnistus (pelko, inho, viha, halveksun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Ammattitiedon päivittämi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Benchmarking (myös muiden ammattityötä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rpa Lautjär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8F362-0EB7-4691-B81E-FF97C0226D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Haasteet yhteistyössä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8147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Johtaju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Tavoitteellisuus (P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Salassapito (lörpöttely, vallan väline, aito suoja ihmisyydel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Tapauksen portfolio, muistio, tavoitteet ja tehtävät eri hallinnonaloille ja ammattiryhmille sekä lapselle ja huoltaj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Henkilöpysyvyys, maton alle lakai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Kateus ja kilpailu asiakkaa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Päätöksenteon rohkeus, aidot kompromissiehdotuk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Erilaiset ammattislangit (”kognitiivinen globaliteetti…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Ammattitaidon puute (poissaolevien panettel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rpa Lautjär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15899-0DAF-467C-9FBE-E5504F17E3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Haasteet yhteistyössä: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Arvostaminen &gt; eri ammatissa eri hom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Ripeys ongelmien hoidoss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Vastuunoton puute ja splittaami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Liian monta henkilöä, jotka vierittävät vastu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kun ei pääse hoitoon”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tarttis terapiaa”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ei sovi tähän luokkaan”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ei voi pitää laitoksessa”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ei saa syyllistää”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8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kun joku muu ei ole tehnyt mitään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Kansalaisrohkeus sanoa stop, kun homma ei toi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rpa Lautjärv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CDBB8-B830-41D2-AAEC-260ADA47AD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4:51:48Z</dcterms:created>
  <dc:creator>lautsir</dc:creator>
  <dc:description/>
  <dc:language>en-US</dc:language>
  <cp:lastModifiedBy>sirpa lautjärvisl</cp:lastModifiedBy>
  <dcterms:modified xsi:type="dcterms:W3CDTF">2009-02-09T11:59:25Z</dcterms:modified>
  <cp:revision>35</cp:revision>
  <dc:subject/>
  <dc:title>Moniammatillinen, aikuinen työyhteisö haastavuuden kesyttäjänä</dc:title>
</cp:coreProperties>
</file>