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B521-17B3-4A9A-A434-46AFA730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A40-F2ED-4795-8B46-D41D682E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CBA9-7AE9-4FE6-9512-FABE7DC0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7E20-18B7-4D0F-A8A2-C9E7E867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281-49AB-49EE-8E9E-0973387B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204-2D64-493F-885D-32DFD6C6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9174-1678-4D96-B4D0-74AE737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C1D-3BD0-4589-97BE-F93CEB3D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16E-C5D2-403F-8AE7-F8ECF46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C9B-03B1-494F-A53E-8624A31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E70-F739-47E8-83E6-AC434E2E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8E2C-A59C-43C0-9464-CCD68D5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0FEA-5EAD-4F76-B513-F40E8F2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9BE9-2BDF-4872-9739-33E5C34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8FA1-3040-4694-8C35-47DCDC4C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A6B-66FF-4709-9AE4-FFDFD376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A0FC-E5FE-4BDF-A664-D35FE65B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69A9-195B-4E80-84C0-81E710C9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8DAE-27D4-4771-96F9-13B8FD6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5D84-A74B-4D78-BFA9-F9E75AF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C062-9D7D-4B0D-B4B7-9AF25B2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E604-19E9-46A6-8737-CF05A32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4A6B-FE26-49CC-B311-9925EF3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40AD-7A3D-42D8-B68F-DB2F315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A4C-0D52-49BD-889C-9EE8D22DD2B9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1AAC-3E2E-4FB8-A5BE-420D604D55EF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496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EAT LAPSET, Wiking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9280" y="83628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1413000"/>
            <a:ext cx="3600360" cy="2879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92360" y="836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olestuneisuus, ahdistus, levottom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155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yllisyydentu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5640" y="270828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ää tuhoav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ytöst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56360" y="148428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ho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ytö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00720" y="400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K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58920" y="422100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ää huolestuneisuut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 ahdist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00720" y="486900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usi syyllisy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vava syyllisyyden tu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6093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litsemattomasti käyttäytyvien, levottomien lasten negatiivinen k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08000" y="1341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780000" y="1413000"/>
            <a:ext cx="187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987640" y="285228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916360" y="2637000"/>
            <a:ext cx="50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88000" y="2205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588000" y="2349360"/>
            <a:ext cx="4334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393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27280" y="393372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866920" y="3213000"/>
            <a:ext cx="360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724000" y="321300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5651640" y="285228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059280" y="3500280"/>
            <a:ext cx="79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563640" y="47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38Z</dcterms:created>
  <dc:creator>toivvel</dc:creator>
  <dc:description/>
  <dc:language>en-US</dc:language>
  <cp:lastModifiedBy>sirpa lautjärvisl</cp:lastModifiedBy>
  <dcterms:modified xsi:type="dcterms:W3CDTF">2009-02-09T12:00:33Z</dcterms:modified>
  <cp:revision>9</cp:revision>
  <dc:subject/>
  <dc:title>VAIKEAT LAPSET, Wiking 1993</dc:title>
</cp:coreProperties>
</file>