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38F8F-064E-4D4E-BBBA-4FBE32C74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3252-543D-4DD2-ADA6-2C376CB47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6C70D-8B09-46B8-9529-7A0230C94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9DEAD-05BD-484D-A7E7-78D5D3C3E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190965-492B-449E-B163-CB750177CF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34DF1-E27B-4D06-8689-1DF0D76A33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C6D52-28B0-4ED4-8572-45558B4959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20828-DFB3-4617-805D-0086553428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B3B5A-0465-4BFE-AEFF-4E1B45AFDF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D97CD-D947-40D4-90DF-F156E77B0C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91B12-1CEF-4BB1-B0DF-53CE95CD8C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054C8-80A4-4F0F-A835-28D82B94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BE1AD-8BB5-4C47-AA28-4C8B3C39CA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7E55B-4C8D-4314-BF0E-3FA084447F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82800-B771-4B40-B183-1034738351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7D5875-1480-4B2F-9462-810AF144B9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074045-5813-4AF5-94AC-25577A5D637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FC2A-6B33-4BCD-ACC9-DC36966D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CC9B-7839-4F64-9A7D-38B80D13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87344-A08C-49F9-BECA-73252B01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F35E7-2D31-407B-A8E7-D0E685D25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0FFDE-7B4B-4798-910C-DAF95585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70BA-D513-4969-9602-4B9E03D7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E7339-6396-47EC-BC7B-550C09DA7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388A-D7DF-4C84-91F5-EFA18744A6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E443-93E2-490C-8C11-DEE4269370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15640" y="333360"/>
            <a:ext cx="7412040" cy="1511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ara</a:t>
            </a:r>
            <a:endParaRPr b="0" lang="en-US" sz="4000" spc="-1" strike="noStrike">
              <a:solidFill>
                <a:srgbClr val="ffffff"/>
              </a:solidFill>
              <a:latin typeface="Tahoma"/>
            </a:endParaRPr>
          </a:p>
        </p:txBody>
      </p:sp>
      <p:sp>
        <p:nvSpPr>
          <p:cNvPr id="84" name="PlaceHolder 2"/>
          <p:cNvSpPr>
            <a:spLocks noGrp="1"/>
          </p:cNvSpPr>
          <p:nvPr>
            <p:ph type="subTitle"/>
          </p:nvPr>
        </p:nvSpPr>
        <p:spPr>
          <a:xfrm>
            <a:off x="900000" y="1773360"/>
            <a:ext cx="7777440" cy="396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5" name="" descr=""/>
          <p:cNvPicPr/>
          <p:nvPr/>
        </p:nvPicPr>
        <p:blipFill>
          <a:blip r:embed="rId1"/>
          <a:stretch/>
        </p:blipFill>
        <p:spPr>
          <a:xfrm>
            <a:off x="900000" y="1773360"/>
            <a:ext cx="7775640" cy="40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ffffff"/>
                </a:solidFill>
                <a:latin typeface="Tahoma"/>
              </a:rPr>
              <a:t>Saaran pedagogisen tilanteen ekologinen arviointi:</a:t>
            </a:r>
            <a:br>
              <a:rPr sz="4000"/>
            </a:b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Bronfenbrenn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Pedagogisen arvionnin taustall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Toimiva tapa kartoittaa ongelmien taso</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Wingdings"/>
                <a:ea typeface="Wingdings"/>
              </a:rPr>
              <a:t></a:t>
            </a:r>
            <a:r>
              <a:rPr b="0" lang="fi-FI" sz="3200" spc="-1" strike="noStrike">
                <a:solidFill>
                  <a:srgbClr val="ffffff"/>
                </a:solidFill>
                <a:latin typeface="Tahoma"/>
              </a:rPr>
              <a:t> </a:t>
            </a:r>
            <a:r>
              <a:rPr b="0" lang="fi-FI" sz="3200" spc="-1" strike="noStrike">
                <a:solidFill>
                  <a:srgbClr val="ffffff"/>
                </a:solidFill>
                <a:latin typeface="Tahoma"/>
              </a:rPr>
              <a:t>Selventää intervention kohdistamista (koulu vai kenties jokin muu tah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6200" y="307800"/>
            <a:ext cx="819972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aran pedagoginen arviointi ekologisessa systeemissä</a:t>
            </a:r>
            <a:endParaRPr b="0" lang="en-US" sz="2400" spc="-1" strike="noStrike">
              <a:solidFill>
                <a:srgbClr val="ffffff"/>
              </a:solidFill>
              <a:latin typeface="Tahoma"/>
            </a:endParaRPr>
          </a:p>
        </p:txBody>
      </p:sp>
      <p:grpSp>
        <p:nvGrpSpPr>
          <p:cNvPr id="103" name=""/>
          <p:cNvGrpSpPr/>
          <p:nvPr/>
        </p:nvGrpSpPr>
        <p:grpSpPr>
          <a:xfrm>
            <a:off x="986040" y="1316520"/>
            <a:ext cx="4311360" cy="4730400"/>
            <a:chOff x="986040" y="1316520"/>
            <a:chExt cx="4311360" cy="4730400"/>
          </a:xfrm>
        </p:grpSpPr>
        <p:sp>
          <p:nvSpPr>
            <p:cNvPr id="104" name="_s6154"/>
            <p:cNvSpPr/>
            <p:nvPr/>
          </p:nvSpPr>
          <p:spPr>
            <a:xfrm>
              <a:off x="986040" y="1993680"/>
              <a:ext cx="3232080" cy="4053240"/>
            </a:xfrm>
            <a:prstGeom prst="donut">
              <a:avLst>
                <a:gd name="adj" fmla="val 12500"/>
              </a:avLst>
            </a:prstGeom>
            <a:solidFill>
              <a:srgbClr val="33cccc"/>
            </a:solidFill>
            <a:ln w="93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05" name="_s6155"/>
            <p:cNvSpPr/>
            <p:nvPr/>
          </p:nvSpPr>
          <p:spPr>
            <a:xfrm>
              <a:off x="4651560" y="2935080"/>
              <a:ext cx="645840" cy="539280"/>
            </a:xfr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_s6152"/>
            <p:cNvSpPr/>
            <p:nvPr/>
          </p:nvSpPr>
          <p:spPr>
            <a:xfrm>
              <a:off x="1390680" y="2501280"/>
              <a:ext cx="2424240" cy="3040200"/>
            </a:xfrm>
            <a:prstGeom prst="donut">
              <a:avLst>
                <a:gd name="adj" fmla="val 16666"/>
              </a:avLst>
            </a:prstGeom>
            <a:solidFill>
              <a:srgbClr val="33cccc"/>
            </a:solidFill>
            <a:ln w="93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07" name="_s6153"/>
            <p:cNvSpPr/>
            <p:nvPr/>
          </p:nvSpPr>
          <p:spPr>
            <a:xfrm>
              <a:off x="4651560" y="2395440"/>
              <a:ext cx="645840" cy="539280"/>
            </a:xfr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_s6158"/>
            <p:cNvSpPr/>
            <p:nvPr/>
          </p:nvSpPr>
          <p:spPr>
            <a:xfrm>
              <a:off x="1793880" y="3006720"/>
              <a:ext cx="1616040" cy="2026440"/>
            </a:xfrm>
            <a:prstGeom prst="donut">
              <a:avLst>
                <a:gd name="adj" fmla="val 25000"/>
              </a:avLst>
            </a:prstGeom>
            <a:solidFill>
              <a:srgbClr val="33cccc"/>
            </a:solidFill>
            <a:ln w="93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09" name="_s6159"/>
            <p:cNvSpPr/>
            <p:nvPr/>
          </p:nvSpPr>
          <p:spPr>
            <a:xfrm>
              <a:off x="4651560" y="1855800"/>
              <a:ext cx="645840" cy="539280"/>
            </a:xfr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_s6150"/>
            <p:cNvSpPr/>
            <p:nvPr/>
          </p:nvSpPr>
          <p:spPr>
            <a:xfrm>
              <a:off x="2198880" y="3514680"/>
              <a:ext cx="807840" cy="1013040"/>
            </a:xfrm>
            <a:prstGeom prst="ellipse">
              <a:avLst/>
            </a:prstGeom>
            <a:solidFill>
              <a:srgbClr val="33cccc"/>
            </a:solidFill>
            <a:ln w="93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11" name="_s6151"/>
            <p:cNvSpPr/>
            <p:nvPr/>
          </p:nvSpPr>
          <p:spPr>
            <a:xfrm>
              <a:off x="4651560" y="1316520"/>
              <a:ext cx="645840" cy="539280"/>
            </a:xfrm>
            <a:noFill/>
            <a:ln w="9360">
              <a:solidFill>
                <a:srgbClr val="ffffff"/>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2" name=""/>
          <p:cNvSpPr/>
          <p:nvPr/>
        </p:nvSpPr>
        <p:spPr>
          <a:xfrm>
            <a:off x="2050920" y="1197000"/>
            <a:ext cx="709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a:t>
            </a:r>
            <a:r>
              <a:rPr b="0" lang="fi-FI" sz="1800" spc="-1" strike="noStrike">
                <a:solidFill>
                  <a:srgbClr val="ffffff"/>
                </a:solidFill>
                <a:latin typeface="Arial"/>
              </a:rPr>
              <a:t>	</a:t>
            </a:r>
            <a:r>
              <a:rPr b="0" lang="fi-FI" sz="1800" spc="-1" strike="noStrike">
                <a:solidFill>
                  <a:srgbClr val="ffffff"/>
                </a:solidFill>
                <a:latin typeface="Arial"/>
              </a:rPr>
              <a:t>            </a:t>
            </a:r>
            <a:r>
              <a:rPr b="1" lang="fi-FI" sz="1200" spc="-1" strike="noStrike">
                <a:solidFill>
                  <a:srgbClr val="ffffff"/>
                </a:solidFill>
                <a:latin typeface="Arial"/>
              </a:rPr>
              <a:t>MIKRO:</a:t>
            </a:r>
            <a:r>
              <a:rPr b="0" lang="fi-FI" sz="1200" spc="-1" strike="noStrike">
                <a:solidFill>
                  <a:srgbClr val="ffffff"/>
                </a:solidFill>
                <a:latin typeface="Arial"/>
              </a:rPr>
              <a:t> </a:t>
            </a:r>
            <a:r>
              <a:rPr b="1" lang="fi-FI" sz="1200" spc="-1" strike="noStrike">
                <a:solidFill>
                  <a:srgbClr val="ffffff"/>
                </a:solidFill>
                <a:latin typeface="Arial"/>
              </a:rPr>
              <a:t>Vaikeuksia ryhmäytymisessä, huomionhakuisuus, </a:t>
            </a:r>
            <a:r>
              <a:rPr b="1" lang="fi-FI" sz="1200" spc="-1" strike="noStrike">
                <a:solidFill>
                  <a:srgbClr val="ffffff"/>
                </a:solidFill>
                <a:latin typeface="Arial"/>
              </a:rPr>
              <a:t>	</a:t>
            </a:r>
            <a:r>
              <a:rPr b="1" lang="fi-FI" sz="1200" spc="-1" strike="noStrike">
                <a:solidFill>
                  <a:srgbClr val="ffffff"/>
                </a:solidFill>
                <a:latin typeface="Arial"/>
              </a:rPr>
              <a:t>	</a:t>
            </a:r>
            <a:r>
              <a:rPr b="1" lang="fi-FI" sz="1200" spc="-1" strike="noStrike">
                <a:solidFill>
                  <a:srgbClr val="ffffff"/>
                </a:solidFill>
                <a:latin typeface="Arial"/>
              </a:rPr>
              <a:t>	</a:t>
            </a:r>
            <a:r>
              <a:rPr b="1" lang="fi-FI" sz="1200" spc="-1" strike="noStrike">
                <a:solidFill>
                  <a:srgbClr val="ffffff"/>
                </a:solidFill>
                <a:latin typeface="Arial"/>
              </a:rPr>
              <a:t>epäsuosio ikätovereiden keskuudessa, alisuoriutumin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 name=""/>
          <p:cNvSpPr/>
          <p:nvPr/>
        </p:nvSpPr>
        <p:spPr>
          <a:xfrm>
            <a:off x="3348000" y="1628640"/>
            <a:ext cx="619272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a:t>
            </a:r>
            <a:r>
              <a:rPr b="0" lang="fi-FI" sz="1800" spc="-1" strike="noStrike">
                <a:solidFill>
                  <a:srgbClr val="ffffff"/>
                </a:solidFill>
                <a:latin typeface="Arial"/>
              </a:rPr>
              <a:t>      </a:t>
            </a:r>
            <a:r>
              <a:rPr b="1" lang="fi-FI" sz="1200" spc="-1" strike="noStrike">
                <a:solidFill>
                  <a:srgbClr val="ffffff"/>
                </a:solidFill>
                <a:latin typeface="Arial"/>
              </a:rPr>
              <a:t>MESO: Vertaisryhmien jakautuminen, kodin ja koulu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Arial"/>
              </a:rPr>
              <a:t>	</a:t>
            </a:r>
            <a:r>
              <a:rPr b="1" lang="fi-FI" sz="1200" spc="-1" strike="noStrike">
                <a:solidFill>
                  <a:srgbClr val="ffffff"/>
                </a:solidFill>
                <a:latin typeface="Arial"/>
              </a:rPr>
              <a:t>vähäinen yhteistyö. Välittävät tekijät: huomion tarve, motivaation </a:t>
            </a:r>
            <a:r>
              <a:rPr b="1" lang="fi-FI" sz="1200" spc="-1" strike="noStrike">
                <a:solidFill>
                  <a:srgbClr val="ffffff"/>
                </a:solidFill>
                <a:latin typeface="Arial"/>
              </a:rPr>
              <a:t>	</a:t>
            </a:r>
            <a:r>
              <a:rPr b="1" lang="fi-FI" sz="1200" spc="-1" strike="noStrike">
                <a:solidFill>
                  <a:srgbClr val="ffffff"/>
                </a:solidFill>
                <a:latin typeface="Arial"/>
              </a:rPr>
              <a:t>puute, sos.identiteetin jäsentymättömyy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
          <p:cNvSpPr/>
          <p:nvPr/>
        </p:nvSpPr>
        <p:spPr>
          <a:xfrm>
            <a:off x="4427640" y="242100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Arial"/>
              </a:rPr>
              <a:t>     </a:t>
            </a:r>
            <a:r>
              <a:rPr b="1" lang="fi-FI" sz="1200" spc="-1" strike="noStrike">
                <a:solidFill>
                  <a:srgbClr val="ffffff"/>
                </a:solidFill>
                <a:latin typeface="Arial"/>
              </a:rPr>
              <a:t>EKSO:Vanhempien kuormittava ja aikaa vievä työ, kaksi systeemiä. Välittävä tekijä: vähäinen aika ja huomio Saaralle, perheen kaksi eri systeemiä</a:t>
            </a:r>
            <a:endParaRPr b="0" lang="en-US" sz="1200" spc="-1" strike="noStrike">
              <a:solidFill>
                <a:srgbClr val="ffffff"/>
              </a:solidFill>
              <a:latin typeface="Arial"/>
            </a:endParaRPr>
          </a:p>
        </p:txBody>
      </p:sp>
      <p:sp>
        <p:nvSpPr>
          <p:cNvPr id="115" name=""/>
          <p:cNvSpPr/>
          <p:nvPr/>
        </p:nvSpPr>
        <p:spPr>
          <a:xfrm>
            <a:off x="4211640" y="2924280"/>
            <a:ext cx="3492360" cy="646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200" spc="-1" strike="noStrike">
                <a:solidFill>
                  <a:srgbClr val="ffffff"/>
                </a:solidFill>
                <a:latin typeface="Arial"/>
              </a:rPr>
              <a:t>MAKRO: (Kaksi maata ja kulttuuria)</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6" name=""/>
          <p:cNvSpPr/>
          <p:nvPr/>
        </p:nvSpPr>
        <p:spPr>
          <a:xfrm>
            <a:off x="4788000" y="4221000"/>
            <a:ext cx="4356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Wingdings"/>
                <a:ea typeface="Wingdings"/>
              </a:rPr>
              <a:t></a:t>
            </a:r>
            <a:r>
              <a:rPr b="1" lang="fi-FI" sz="1600" spc="-1" strike="noStrike">
                <a:solidFill>
                  <a:srgbClr val="ffffff"/>
                </a:solidFill>
                <a:latin typeface="Arial"/>
              </a:rPr>
              <a:t>Ongelmat peräisin pääosin meso- ja eksotasoil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Wingdings"/>
                <a:ea typeface="Wingdings"/>
              </a:rPr>
              <a:t></a:t>
            </a:r>
            <a:r>
              <a:rPr b="1" lang="fi-FI" sz="1600" spc="-1" strike="noStrike">
                <a:solidFill>
                  <a:srgbClr val="ffffff"/>
                </a:solidFill>
                <a:latin typeface="Arial"/>
              </a:rPr>
              <a:t>Näkyvät mikrotasoll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Wingdings"/>
                <a:ea typeface="Wingdings"/>
              </a:rPr>
              <a:t></a:t>
            </a:r>
            <a:r>
              <a:rPr b="1" lang="fi-FI" sz="1600" spc="-1" strike="noStrike">
                <a:solidFill>
                  <a:srgbClr val="ffffff"/>
                </a:solidFill>
                <a:latin typeface="Arial"/>
              </a:rPr>
              <a:t>Päätelmä: Voidaan vaikuttaa koulussa puuttumalla mesotason ongelmi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Mikrotaso korjaantuu sillä, ja eksotaso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ei koulun puitteissa juurikaan voida vaikutta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1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2"/>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inteisempi lähestymistapa pedagogiseen arviointiin (Kelpo)</a:t>
            </a:r>
            <a:endParaRPr b="0" lang="en-US" sz="32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ähtökohta</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 </a:t>
            </a:r>
            <a:r>
              <a:rPr b="0" lang="en-US" sz="1800" spc="-1" strike="noStrike">
                <a:solidFill>
                  <a:srgbClr val="ffffff"/>
                </a:solidFill>
                <a:latin typeface="Tahoma"/>
              </a:rPr>
              <a:t>8.-luokkalainen huomionhakuinen tyttö. </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3. luokalla hienomotoriset taidot alkaneet heiketä </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4.-6. luokalla kiinnostus liikuntaa väheni selvästi ja äidinkielen kirjalliset tuotokset alkoivat heikentyä </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laluokilla Saaran äidinkielen kirjalliset tehtävät ja kiinnostus liikuntaan olivat vahvuuksia</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Kaksikielinen perhe (suomi/englanti)</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Paljon yksin vanhempiensa töiden takia</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Runsaasti poissaoloja (Australia &amp; puutteellinen valvonta)</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Vertaisryhmässä ja opettajia kohtaan huomionhakuisuutta/torjuntaa</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Ei pääse ryhmän täysivaltaiseksi jäseneksi</a:t>
            </a:r>
            <a:endParaRPr b="0" lang="en-US" sz="1800" spc="-1" strike="noStrike">
              <a:solidFill>
                <a:srgbClr val="ffffff"/>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Oppimismotivaation puutetta (tyytymättömyys Suomessa asumiseen ja runsas yksinolo (-&gt; vaikutus minäkäsitykseen) </a:t>
            </a:r>
            <a:endParaRPr b="0" lang="en-US" sz="1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549360"/>
            <a:ext cx="896472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2. Saaran oppimisen vahvuudet</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Saaran vahvuuksia ovat englanti ja äidinkielen suulliset tuotokset.</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3. Saaran oppimisen heikkoudet</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Äidinkielen kirjalliset tuotokset, liikunta, prososiaalinen käytös (ei huomioi muita oppimisrauhan ja positiivisen tunnelman säilyttämisessä, vaikeus luoda sosiaalisia suhteit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4. Oppilaan tarvitsema tehostettu tuki</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Myönteisen minäkäsityksen kehittymisessä (jotta motivaatio lisääntyy).</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Prososiaalisen käyttäytymisen oppimisessa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Itsearvostuksen myönteisessä kehittymisessä, jotta hänen ei tarvitse hakea huomioita käytöksellää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Äidinkielen kirjallisten tuotosten osalta yksilöllistä opetusta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Liikuntatunneilla kehontuntemuksen ja peruskunnon kehittymisen tukemist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5. Oppilaan saama tuki</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Toistaiseksi ei ole toteutettu mitään tehostetun tuen toimenpiteitä.</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0"/>
            <a:ext cx="914400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6. Pedagoginen päätelmä</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A)</a:t>
            </a:r>
            <a:r>
              <a:rPr b="0" lang="fi-FI" sz="1800" spc="-1" strike="noStrike">
                <a:solidFill>
                  <a:srgbClr val="ffffff"/>
                </a:solidFill>
                <a:latin typeface="Arial"/>
              </a:rPr>
              <a:t> Sosioemotionaaliset ongelmat:</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a:t>
            </a:r>
            <a:r>
              <a:rPr b="0" lang="fi-FI" sz="1800" spc="-1" strike="noStrike">
                <a:solidFill>
                  <a:srgbClr val="ffffff"/>
                </a:solidFill>
                <a:latin typeface="Arial"/>
              </a:rPr>
              <a:t>Saaran huomionhakuinen käytös ja oppimisen esteet näyttäisivät johtuvan emotionaalisista ongelmista, jotka ovat lähtöisin meso- ja eksotasolta (lähipiirit ja niihin vaikuttavat ulkopuoliset tekijät). Huomion tarve, motivaation puute sekä sosiaalisen identiteetin jäsentymättömyys ja negatiivisuus aiheuttavat esteitä oppimiselle.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B)</a:t>
            </a:r>
            <a:r>
              <a:rPr b="0" lang="fi-FI" sz="1800" spc="-1" strike="noStrike">
                <a:solidFill>
                  <a:srgbClr val="ffffff"/>
                </a:solidFill>
                <a:latin typeface="Arial"/>
              </a:rPr>
              <a:t> Oppimisen ongelmat:</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a:t>
            </a:r>
            <a:r>
              <a:rPr b="0" lang="fi-FI" sz="1800" spc="-1" strike="noStrike">
                <a:solidFill>
                  <a:srgbClr val="ffffff"/>
                </a:solidFill>
                <a:latin typeface="Arial"/>
              </a:rPr>
              <a:t>Koulupsykologi ei ole havainnut mitään neurologisesti perusteltavaa oppimisvaikeutta. Saaran tapauksessa on kyse oppimisen loppumisesta murrosiän aikoihin. Hänellä on oppimisen suhteen pääasiallisesti motivaation puutetta. Äidinkielen osalta kaksikielisyys voi heikentää kirjallisia tuotoksiaan. Kotikieli on englanti.</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imenpite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Oppimisympäristöön tarvittavat muutoks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pimisympäristö pyritään saamaan vertaisryhmän osalta paremmin sopeutumista tukevaksi. Luokassa keskustellaan videoiden avulla erilaisista kulttuureista ja ryhmärooleista. Tavoitteena on, että Saara pääsee kertomaan ”virallisesti” omasta taustastaan ja saa siihen kuuluvan huomion. Opettajat pyrkivät jatkossa huomioimaan Saaran jostakin positiivisesta asiasta ennen kuin hän ehtii sitä kaiv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Oppimismateriaaleihin tarvittavat muutoks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Äidinkielen kirjallisten tuotosten osalta pyritään tarjoamaan tukevaa materiaalia Australiaan liittyvien aiheiden tiimoilta. Muuta erityismateriaalia ei tarvi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Muut jatkotoimenpite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veystiedon tunneilla painotetaan terveellisen ruokavalion ja syömishäiriöiden käsittelemistä anonyymisti. Bulimiaepäilyn tiimoilta Saaralle varataan aika koulupsykologin ja terveydenhoitajan vastaanotoille ja ollaan yhteydessä huoltajiin. Vanhemmat eivät päässeet käymään vanhempainvartissa viimeksi. Järjestetään uusi tapaaminen, johon ainakin toinen vanhemmista pääsisi paikalle. Tämä sen vuoksi, että kotitilanne ja esimerkiksi yksin olemisen määrä selvitetään ja kartoitetaan muiden jatkotoimenpiteiden/-tuen tarve kotielämän osal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ff"/>
                </a:solidFill>
                <a:latin typeface="Tahoma"/>
              </a:rPr>
              <a:t>Saaran ongelmat</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Kadonneet taidot – erityisesti äidinkiel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Huomionhakuisuu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Yksinäisyy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Poissaolo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Salaiset ongelm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ff"/>
                </a:solidFill>
                <a:latin typeface="Tahoma"/>
              </a:rPr>
              <a:t>Artikkelit</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vin S. Sutherland and Joseph H. Wehby: </a:t>
            </a:r>
            <a:r>
              <a:rPr b="1" lang="en-US" sz="2800" spc="-1" strike="noStrike">
                <a:solidFill>
                  <a:srgbClr val="ffffff"/>
                </a:solidFill>
                <a:latin typeface="Tahoma"/>
              </a:rPr>
              <a:t>The Effect of Self-Evaluation on Teaching Behavior in Classrooms for Students with Emotional and Behavioral Disorders</a:t>
            </a:r>
            <a:r>
              <a:rPr b="0" lang="en-US" sz="2800" spc="-1" strike="noStrike">
                <a:solidFill>
                  <a:srgbClr val="ffffff"/>
                </a:solidFill>
                <a:latin typeface="Tahoma"/>
              </a:rPr>
              <a:t>. The Journal of Special Education vol. 35 no. 3 2001 pp. 161-171.</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lyn W. Goodwin: </a:t>
            </a:r>
            <a:r>
              <a:rPr b="1" lang="en-US" sz="2800" spc="-1" strike="noStrike">
                <a:solidFill>
                  <a:srgbClr val="ffffff"/>
                </a:solidFill>
                <a:latin typeface="Tahoma"/>
              </a:rPr>
              <a:t>Cooperative Learning and Social Skills: What Skills to Teach and How to Teach Them</a:t>
            </a:r>
            <a:r>
              <a:rPr b="0" lang="en-US" sz="2800" spc="-1" strike="noStrike">
                <a:solidFill>
                  <a:srgbClr val="ffffff"/>
                </a:solidFill>
                <a:latin typeface="Tahoma"/>
              </a:rPr>
              <a:t>. </a:t>
            </a:r>
            <a:r>
              <a:rPr b="0" lang="fi-FI" sz="2800" spc="-1" strike="noStrike">
                <a:solidFill>
                  <a:srgbClr val="ffffff"/>
                </a:solidFill>
                <a:latin typeface="Tahoma"/>
              </a:rPr>
              <a:t>Intervention in School and Clinic vol. 25 no. 1 Sept. 1999 pp. 29-33.</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ff"/>
                </a:solidFill>
                <a:latin typeface="Tahoma"/>
              </a:rPr>
              <a:t>Opettajan viestintätyyli</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tunne-elämältään häiriintyneiden ja käytöshäiriöisten lasten opetuksessa käytetään liian vähän positiivista palautetta</a:t>
            </a:r>
            <a:endParaRPr b="0" lang="en-US" sz="2000" spc="-1" strike="noStrike">
              <a:solidFill>
                <a:srgbClr val="ffffff"/>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lisäisi sekä oppimista että toivottua käytöstä.</a:t>
            </a:r>
            <a:endParaRPr b="0" lang="en-US" sz="2000" spc="-1" strike="noStrike">
              <a:solidFill>
                <a:srgbClr val="ffffff"/>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n. 20% opettajien ja oppilaiden välisestä kommunikaatiosta on negatiivista ja positiivista vain alle 5% ajasta</a:t>
            </a:r>
            <a:endParaRPr b="0" lang="en-US" sz="2000" spc="-1" strike="noStrike">
              <a:solidFill>
                <a:srgbClr val="ffffff"/>
              </a:solidFill>
              <a:latin typeface="Tahom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opettajat eivät myöskään käytä tehokkaimpia opetusmenetelmiä, jolloin vaikeudet vain lisääntyvät:</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	</a:t>
            </a:r>
            <a:r>
              <a:rPr b="0" lang="fi-FI" sz="2000" spc="-1" strike="noStrike">
                <a:solidFill>
                  <a:srgbClr val="ffffff"/>
                </a:solidFill>
                <a:latin typeface="Tahoma"/>
              </a:rPr>
              <a:t>1. vaikeat tehtävät, puutteelliset oppimistaidot = ei osata pyytää apua</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	</a:t>
            </a:r>
            <a:r>
              <a:rPr b="0" lang="fi-FI" sz="2000" spc="-1" strike="noStrike">
                <a:solidFill>
                  <a:srgbClr val="ffffff"/>
                </a:solidFill>
                <a:latin typeface="Tahoma"/>
              </a:rPr>
              <a:t>2. liian helpot tehtävät -&gt; oppilaat pitkästyvät, häiriökayttäytyminen lisääntyy </a:t>
            </a:r>
            <a:r>
              <a:rPr b="0" lang="fi-FI" sz="2000" spc="-1" strike="noStrike">
                <a:solidFill>
                  <a:srgbClr val="ffffff"/>
                </a:solidFill>
                <a:latin typeface="Tahoma"/>
                <a:ea typeface="Tahoma"/>
              </a:rPr>
              <a:t>≠</a:t>
            </a:r>
            <a:r>
              <a:rPr b="0" lang="fi-FI" sz="2000" spc="-1" strike="noStrike">
                <a:solidFill>
                  <a:srgbClr val="ffffff"/>
                </a:solidFill>
                <a:latin typeface="Tahoma"/>
              </a:rPr>
              <a:t> uutta oppimis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ffff"/>
                </a:solidFill>
                <a:latin typeface="Tahoma"/>
              </a:rPr>
              <a:t>Lisää kehuja</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ahoma"/>
              </a:rPr>
              <a:t>Opettajan itsearviointi:</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ahoma"/>
              </a:rPr>
              <a:t>myönteinen, mutta lyhytaikainen vaikutus positiivisen palautteen lisääntymisee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ahoma"/>
              </a:rPr>
              <a:t>ei-toivottu käytös väheni ja koulutyöhön liittyvät oikeat vastaukset (!) lisääntyivä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ahoma"/>
              </a:rPr>
              <a:t>tärkeimpänä tuloksena näiden tekijöiden vaikutuksesta opettajat tulivat tietoisemmiksi opetusmenetelmistään ja käyttivät näitä tehokkaammi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ahoma"/>
              </a:rPr>
              <a:t>pitkäaikainen käytöksen muutos käytöshäiriöisten lasten luokissa katsottiin vaikeaksi saavutta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a:t>
            </a:r>
            <a:r>
              <a:rPr b="0" i="1" lang="en-US" sz="3200" spc="-1" strike="noStrike">
                <a:solidFill>
                  <a:srgbClr val="ffffff"/>
                </a:solidFill>
                <a:latin typeface="Tahoma"/>
              </a:rPr>
              <a:t>However, in many classrooms for students with EBD, no only do students receive little positive reinforcement for correct academic and social responses by their teachers, but they also are not being given opportunities to actively respond to academic requ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ffffff"/>
                </a:solidFill>
                <a:latin typeface="Tahoma"/>
              </a:rPr>
              <a:t>Yhteistoiminnallinen oppiminen ja sosiaaliset taidot</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Goodwinin artikkeli antaa monia käytännön vinkkejä sosiaalisten taitojen opettelemisee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oppilaat eivät itsestään voi osata työskennellä yhdessä tehokkaasti, jos heille ei näitä taitoja ole opetettu</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myönteinen riippuvuus toisista on yhteistoiminnallisen oppimisen tavoit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ffffff"/>
                </a:solidFill>
                <a:latin typeface="Tahoma"/>
              </a:rPr>
              <a:t>forming </a:t>
            </a:r>
            <a:r>
              <a:rPr b="0" lang="fi-FI" sz="2800" spc="-1" strike="noStrike">
                <a:solidFill>
                  <a:srgbClr val="ffffff"/>
                </a:solidFill>
                <a:latin typeface="Tahoma"/>
              </a:rPr>
              <a:t>= ryhmän muotoutumiseksi tarvittavia välttämättömiä hyväksytyn käyttäytymisen taitoja</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ffffff"/>
                </a:solidFill>
                <a:latin typeface="Tahoma"/>
              </a:rPr>
              <a:t>functioning </a:t>
            </a:r>
            <a:r>
              <a:rPr b="0" lang="fi-FI" sz="2800" spc="-1" strike="noStrike">
                <a:solidFill>
                  <a:srgbClr val="ffffff"/>
                </a:solidFill>
                <a:latin typeface="Tahoma"/>
              </a:rPr>
              <a:t>= jäsenten väliset suhteet mahdollistavat tehokkaan toiminnan</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ffffff"/>
                </a:solidFill>
                <a:latin typeface="Tahoma"/>
              </a:rPr>
              <a:t>formulating </a:t>
            </a:r>
            <a:r>
              <a:rPr b="0" lang="fi-FI" sz="2800" spc="-1" strike="noStrike">
                <a:solidFill>
                  <a:srgbClr val="ffffff"/>
                </a:solidFill>
                <a:latin typeface="Tahoma"/>
              </a:rPr>
              <a:t>= pyritään taitoihin, joiden avulla päästään syvemmälle opiskeltavan asian ymmärtämisessä</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ffffff"/>
                </a:solidFill>
                <a:latin typeface="Tahoma"/>
              </a:rPr>
              <a:t>fermenting</a:t>
            </a:r>
            <a:r>
              <a:rPr b="0" lang="en-US" sz="2800" spc="-1" strike="noStrike">
                <a:solidFill>
                  <a:srgbClr val="ffffff"/>
                </a:solidFill>
                <a:latin typeface="Tahoma"/>
              </a:rPr>
              <a:t> = </a:t>
            </a:r>
            <a:r>
              <a:rPr b="0" lang="fi-FI" sz="2800" spc="-1" strike="noStrike">
                <a:solidFill>
                  <a:srgbClr val="ffffff"/>
                </a:solidFill>
                <a:latin typeface="Tahoma"/>
              </a:rPr>
              <a:t>päästään laajentamaan käsiteltävää aihetta ja perustelemaan päätelmien takaa löytyviä ajatuksi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ffffff"/>
                </a:solidFill>
                <a:latin typeface="Tahoma"/>
              </a:rPr>
              <a:t>”</a:t>
            </a:r>
            <a:r>
              <a:rPr b="0" lang="fi-FI" sz="4000" spc="-1" strike="noStrike">
                <a:solidFill>
                  <a:srgbClr val="ffffff"/>
                </a:solidFill>
                <a:latin typeface="Tahoma"/>
              </a:rPr>
              <a:t>Miks ope on aina mun kimpussa?”</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matikanope Virnes täydennyskoulutuksee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uusia opetusmenetelmiä</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ryhmätyö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tietoinen päätös myönteisen palautteen antamisesta Saaral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ahoma"/>
              </a:rPr>
              <a:t>Saaran motivoin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8:00:34Z</dcterms:created>
  <dc:creator>Minna</dc:creator>
  <dc:description/>
  <dc:language>en-US</dc:language>
  <cp:lastModifiedBy>Minna</cp:lastModifiedBy>
  <dcterms:modified xsi:type="dcterms:W3CDTF">2009-03-04T20:47:15Z</dcterms:modified>
  <cp:revision>19</cp:revision>
  <dc:subject/>
  <dc:title>Pedagoginen arviointi</dc:title>
</cp:coreProperties>
</file>